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712-CC3E-4E47-AB33-E527BBF1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B57A-AA86-473A-A4BA-82D192E7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56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8D0-E06C-4D2F-9A41-F03C6A98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233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43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233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43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AA4-326A-405C-8550-3DF97731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5800-03A5-4904-83F0-A0C191C7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0F45-3A56-4428-A8EB-208F0EAE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741C-44ED-4379-8DD0-E7F20F08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9D8D-3949-4595-AE32-77D1AAFA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185E-1CB5-46D7-87C0-1264695D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5640" y="457200"/>
            <a:ext cx="6172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6778-1C64-4C97-8A34-3E60F22E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749B-3E04-462C-BC27-8612D656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AFF-FF78-42F3-8A91-DFEC8F52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56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EA74-ACEC-40D0-97F8-1D658FD2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9060-72E9-4131-AB68-18607E48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7E5B-90F2-4EF4-B0EF-D0D35560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56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07DE-19B4-464F-84FC-36D4600F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33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843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233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843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1BAA-2289-46DB-9F39-1BA3E4BE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64A-3F2A-4CF5-8C5B-AD06ED93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554C-4FB6-414B-9E88-DC8630B8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3DB-FB52-4A77-BA76-2E490B49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5640" y="457200"/>
            <a:ext cx="6172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BDE-3D2E-4E81-A4A6-99B41ACB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2CB-1A61-4EB7-904D-79A1BCB6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56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510-043E-4F9A-9978-915371BA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5640" y="387720"/>
            <a:ext cx="6172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56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E11-E8E5-4918-A232-82AD431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1722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25560" indent="-1850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296000" indent="-1850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666440" indent="-1850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666440" indent="-1850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666440" indent="-1850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3203-DB54-4B23-AE35-7A55BCF1EB8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0A30-773B-425C-B6D6-84E118025A0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aude Debussy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42680" y="3733920"/>
            <a:ext cx="4056120" cy="2286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/12/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ana Wat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ke Johns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114800" y="609480"/>
            <a:ext cx="1193760" cy="1575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900"/>
                            </p:stCondLst>
                            <p:childTnLst>
                              <p:par>
                                <p:cTn id="2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4400"/>
                            </p:stCondLst>
                            <p:childTnLst>
                              <p:par>
                                <p:cTn id="2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190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7600" y="457200"/>
            <a:ext cx="3200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ude Debussy was born in 1862 at St. Germain-en-lay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 Claude Debussy’s life was kept</a:t>
            </a: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68a4b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ystery so unfortunately no one knows about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914400"/>
            <a:ext cx="23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5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3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ude’s parents had many job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which were in a china shop, travel salesman, seamstress, printers assistant, and a stores cle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33920" y="97164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ude Debussy had a sister and three br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eople do not know their  names and unfortunately we are some of those peo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269600" y="91440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bl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ude first performed at Prix De Rome 22 there he won his first awa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music teacher Madame Maute De Fleurvi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composed music in 188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performed orchestral and piano mus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268520" y="99072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rote What the West Wind Saw, Dead Leaves, and Clair Delu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111920" y="80316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r in his years he married Gabbrielle Depo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dedicated a song to 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do not know if he had any childr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429440" y="84132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75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361960" y="1981080"/>
            <a:ext cx="6095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died in the bombing of France in 19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only 56 when he di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299120" y="104616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75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gewood User</cp:lastModifiedBy>
  <dcterms:modified xsi:type="dcterms:W3CDTF">2007-09-14T16:02:30Z</dcterms:modified>
  <cp:revision>4</cp:revision>
  <dc:subject/>
  <dc:title>Claude Debussy</dc:title>
</cp:coreProperties>
</file>